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40620"/>
        <c:axId val="70867373"/>
      </c:barChart>
      <c:catAx>
        <c:axId val="632406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67373"/>
        <c:crosses val="autoZero"/>
        <c:auto val="1"/>
        <c:lblAlgn val="ctr"/>
        <c:lblOffset val="100"/>
        <c:noMultiLvlLbl val="0"/>
      </c:catAx>
      <c:valAx>
        <c:axId val="70867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406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559-AC58-48B0-B9E0-0B98357B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479-1E1E-4006-91C8-C5CA8955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CBA-2D40-4B09-ABE6-F01682AF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2B2-C2ED-4C58-9C9B-9B5DE4D4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618-5664-4414-98F7-EE3F16ED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344-58F5-4227-89A9-4A8A0A8F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8BA-554D-4F26-83A3-6DA7C7D2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EF5-9339-4756-BDAF-1AFBC75F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75F-9021-4B28-A73C-C2ECD598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05A-568B-40AF-B6DF-8F6379B3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ED6-B891-4A7C-BC8C-E8CC9AE0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212-C755-4588-BCFF-87FA31AC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BAA38-603F-41EF-967A-F08CB5C5ED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